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4E0-6D99-4C54-8D47-023BB4EF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3AE-0222-464F-9D52-B87BF75E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D8A-0313-43BD-9B2B-2DE393B1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141-D4A3-4129-A8A3-535018DA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260-ECD1-4134-B16B-E7EAD03F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8A2F-14CB-414B-9009-193BBEA3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CD1-94AC-4B6D-B4E4-9307AC8F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1BE8-96C4-4331-8F6D-F8B3C67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76D-14C3-4BB4-8A7F-57EA377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9E7-CB0E-4475-999B-0AFDA37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26B7-D517-4401-BA0F-13D998C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A34-EB68-41B6-9909-82F38E6F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97B8-1F80-49D7-AA33-C791EB2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519-6B1A-4DE7-83AA-B98F841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8F98-065E-49E2-9F81-5DF54862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D5AC-E185-42F5-B209-0F58EB92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1A8-B514-41E0-841C-2DCFBA5A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EFA9-7BA5-44FB-AC77-86942B88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FB00-2541-4192-84A7-AC267706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90C7-B3CB-4B49-B02F-097A965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49AC-78AA-46A5-AAF9-AFC32ED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F77E-49AC-4704-9F17-46ADB75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A70-F93A-4533-83E9-96FB9456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7C03A-9636-4A41-8FEE-CB5A383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E556-9F2D-48AF-A732-E438B38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C52E-3EFD-4B71-BC9D-6A46F9B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DE31-2AE3-443F-957B-8437E2F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AA27-832B-4762-AAB0-188F1A27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EB591-C7EA-4CE1-9CD5-E7F17E5B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A522-6F39-410B-9912-A031C2FB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1185-1589-4626-A12D-C7B4BCC2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2323-9A31-49B1-B74C-AF78804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D561-F885-4A38-9168-56D1762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8C9-52D3-49B9-88B7-0346ACC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E84C-BEDC-4F93-88A6-C1C9D14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74BA-6E04-4439-8BEC-80633A0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9405-FADB-4B05-9745-130E5E8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733A-4B8B-4C87-8220-BFAEBEF7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DF75-895F-4CA0-92AB-382180D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02C94-047F-4541-BA05-C166008F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5FB0A-A8E3-4348-A1AA-7C7BAE8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1206-4A21-4237-A8E0-7A4521E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545B-4E68-4762-879E-8208DBA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DE93-3468-48C6-875D-7ACBA487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2AF-6B05-445B-AE96-C48A2148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CA69-26AC-48D1-BD2C-624C2043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3DE1-8F3C-413F-B092-F6D8F32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6F2CF-ACD9-4B01-99E3-8A9B4F1D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373D-AAC3-4BBE-8F7C-E38D9A2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610A2-1126-4D4D-83D3-EB72DFEB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0B89-1DB1-4EE9-927B-2F91784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8B0C-4AFD-4FE1-ABCD-DC041DC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FC61-E931-4294-8AD2-4D1810D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EC338-9925-4B13-B84C-2CD30F25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51D3-070A-4A3F-82C8-5730D193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66480"/>
            <a:ext cx="58294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A6E-0BAD-4C6F-94E1-65F9583B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65644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7080" y="19303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65644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4627080" y="5114520"/>
            <a:ext cx="1876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139C0-6EE8-4A1B-9B41-B2A96A45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529-93C7-4C68-BC1D-C6CFB6AA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72720" y="51145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9B6-4152-4A55-A161-0EE4FBC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930320"/>
            <a:ext cx="2844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5114520"/>
            <a:ext cx="58294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302-0F0A-49B0-BF5A-B30692B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119-5F08-4787-A4EA-911F504D20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49320" y="93600"/>
            <a:ext cx="6759360" cy="8921880"/>
          </a:xfrm>
          <a:custGeom>
            <a:avLst/>
            <a:gdLst>
              <a:gd name="textAreaLeft" fmla="*/ 97560 w 6759360"/>
              <a:gd name="textAreaRight" fmla="*/ 6661800 w 6759360"/>
              <a:gd name="textAreaTop" fmla="*/ 97560 h 8921880"/>
              <a:gd name="textAreaBottom" fmla="*/ 8824320 h 8921880"/>
            </a:gdLst>
            <a:ahLst/>
            <a:rect l="textAreaLeft" t="textAreaTop" r="textAreaRight" b="textAreaBottom"/>
            <a:pathLst>
              <a:path w="21600" h="28510">
                <a:moveTo>
                  <a:pt x="1065" y="0"/>
                </a:moveTo>
                <a:arcTo wR="1065" hR="1065" stAng="16200000" swAng="-5400000"/>
                <a:lnTo>
                  <a:pt x="0" y="27445"/>
                </a:lnTo>
                <a:arcTo wR="1065" hR="1065" stAng="10800000" swAng="-5400000"/>
                <a:lnTo>
                  <a:pt x="20535" y="28510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47520" y="1932120"/>
            <a:ext cx="6766200" cy="2036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47520" y="1862280"/>
            <a:ext cx="6766200" cy="1602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47520" y="3968640"/>
            <a:ext cx="6766200" cy="1476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94B2-FDAA-4ADF-B814-A02647CD0F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42840" y="85680"/>
            <a:ext cx="6778800" cy="8942400"/>
            <a:chOff x="42840" y="85680"/>
            <a:chExt cx="6778800" cy="894240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42840" y="85680"/>
              <a:ext cx="6778800" cy="894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46160" y="190440"/>
              <a:ext cx="6565680" cy="87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52560" y="3167640"/>
            <a:ext cx="6759360" cy="1220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52560" y="3122640"/>
            <a:ext cx="6759360" cy="6012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50760" y="3292560"/>
            <a:ext cx="6761160" cy="60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0120" y="8229240"/>
            <a:ext cx="3000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159120" y="836784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A93-D576-466A-8985-072823752E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685440" y="822924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159120" y="836928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532A-3687-4319-B744-C5DADB5BDD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47520" y="93600"/>
            <a:ext cx="6761160" cy="8923320"/>
          </a:xfrm>
          <a:custGeom>
            <a:avLst/>
            <a:gdLst>
              <a:gd name="textAreaLeft" fmla="*/ 97560 w 6761160"/>
              <a:gd name="textAreaRight" fmla="*/ 6663600 w 6761160"/>
              <a:gd name="textAreaTop" fmla="*/ 97560 h 8923320"/>
              <a:gd name="textAreaBottom" fmla="*/ 8825760 h 8923320"/>
            </a:gdLst>
            <a:ahLst/>
            <a:rect l="textAreaLeft" t="textAreaTop" r="textAreaRight" b="textAreaBottom"/>
            <a:pathLst>
              <a:path w="21600" h="28507">
                <a:moveTo>
                  <a:pt x="1065" y="0"/>
                </a:moveTo>
                <a:arcTo wR="1065" hR="1065" stAng="16200000" swAng="-5400000"/>
                <a:lnTo>
                  <a:pt x="0" y="27442"/>
                </a:lnTo>
                <a:arcTo wR="1065" hR="1065" stAng="10800000" swAng="-5400000"/>
                <a:lnTo>
                  <a:pt x="20535" y="2850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50760" y="6244560"/>
            <a:ext cx="6754680" cy="120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50760" y="6200640"/>
            <a:ext cx="6754680" cy="604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50760" y="6364440"/>
            <a:ext cx="6754680" cy="648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440" y="1930320"/>
            <a:ext cx="5829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628880" y="8254800"/>
            <a:ext cx="185724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685800" y="8229240"/>
            <a:ext cx="291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159120" y="8367840"/>
            <a:ext cx="243000" cy="4309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8962-A874-4484-B2B5-D95BDE78E8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56800" y="5000760"/>
            <a:ext cx="4800600" cy="29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Hojas caen sin ces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 sopla muy 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fuerte el vient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abrosos frutos de otoñ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Hemos cogido del sue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Castañas, nueces, bellot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Avellanas y las almend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Reunidos todos muy ju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Una gran fiesta hemos hecho</a:t>
            </a:r>
            <a:r>
              <a:rPr b="0" lang="es-ES" sz="1800" spc="-1" strike="noStrike">
                <a:solidFill>
                  <a:srgbClr val="696464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pic>
        <p:nvPicPr>
          <p:cNvPr id="230" name="1201154541718.MP3" descr=""/>
          <p:cNvPicPr/>
          <p:nvPr/>
        </p:nvPicPr>
        <p:blipFill>
          <a:blip r:embed="rId1"/>
          <a:stretch/>
        </p:blipFill>
        <p:spPr>
          <a:xfrm>
            <a:off x="6072120" y="4143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99720" y="4286160"/>
            <a:ext cx="4800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Ha llegado muy callado con su vestido marr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evantando un aire fresco y anunciando su es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Os dice adiós el verano, llueve y llueve sin para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os árboles, las hojitas, peladitos quedar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Tiene  el otoño un pincel y pinta el campo do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as  nubes las pinta grises y al sol lo pinta nub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Los pájaros en bandada, vuelan hacia otro lug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Porque aquí tienen mucho frío y no pueden p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Dile a mamá que te ponga el jersey y la chaque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En los pies botas de agua y en las man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c000"/>
                </a:solidFill>
                <a:latin typeface="Times New Roman"/>
              </a:rPr>
              <a:t>un paragu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42720" y="2008080"/>
            <a:ext cx="6172200" cy="195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7128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otoño empieza, lo siento en el ai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s que las hojitas comienzan el ba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las se sueltan, giran hacia abaj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Y a los barrenderos , dan mucho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otoño es bonito, con días de so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Y todo el paisaje se pone marr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Marrón y amarillo, como los membrill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marrón y dorado, todo empapel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El paisaje cambia, el otoño empiez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e3611"/>
                </a:solidFill>
                <a:latin typeface="Times New Roman"/>
              </a:rPr>
              <a:t>Disfrutemos todos juntos de su belle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71280" y="4266720"/>
            <a:ext cx="4800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Castaña, castañita que en el fuego está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Salta, salta, que te quema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Castaña, castañera que asando castañas es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b050"/>
                </a:solidFill>
                <a:latin typeface="Times New Roman"/>
              </a:rPr>
              <a:t>Ten cuidado, ten cuidado o te quemar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7" name="2 Subtítulo"/>
          <p:cNvSpPr/>
          <p:nvPr/>
        </p:nvSpPr>
        <p:spPr>
          <a:xfrm>
            <a:off x="97164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71280" y="4267080"/>
            <a:ext cx="4800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El otoño ha llegado y con él, los virus nos han inundad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Tos y mocos han acampado y papá y mamá ojo no han pe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A mi hermana he contagiado con mutación incl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Pues ha vomi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é bonito el otoñ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é color tan dorad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030a0"/>
                </a:solidFill>
                <a:latin typeface="Times New Roman"/>
              </a:rPr>
              <a:t>¡que buen  aspecto tenemos tan perjudicado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56760" y="2071800"/>
            <a:ext cx="6172200" cy="1960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ESÍAS DE OTOÑO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0" name="2 Subtítulo"/>
          <p:cNvSpPr/>
          <p:nvPr/>
        </p:nvSpPr>
        <p:spPr>
          <a:xfrm>
            <a:off x="971640" y="4267080"/>
            <a:ext cx="4800600" cy="40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éctor</cp:lastModifiedBy>
  <dcterms:modified xsi:type="dcterms:W3CDTF">2011-12-06T22:57:30Z</dcterms:modified>
  <cp:revision>9</cp:revision>
  <dc:subject/>
  <dc:title>POESÍAS DE OTOÑO</dc:title>
</cp:coreProperties>
</file>